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EAC-FBD3-411C-A8F4-2F556155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27D-CA8D-443D-9A5F-EED890A6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760-8C37-4861-A959-4ECF0CB4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8B9-7130-485C-8565-9A366EB6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03FF-08FB-4EFA-9A86-0C1E226F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0689-53D4-442F-8863-6FA07F6D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008C-4F93-453B-962D-F6EEFB9C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996E-A487-4867-BD83-A9C1D42F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AEF1-7AF5-4AB9-99B9-767692A7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5BB0-DD71-474A-A0A8-EE088E21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1BEE-1032-41B9-8C0E-72CA4DA5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BF0-6EE5-418B-983D-B6DF8465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F71B-56BF-4CAB-8371-4F8FFD09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9116-B263-4509-A94F-F9834B7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EAD3-0E22-4EBF-95FC-63046B1C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E8A1-DC8E-4FC1-AFC4-6FED85C4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D424-DD0B-4365-8DEC-C19BD15A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A2C-AE0F-4299-A00A-50E78B83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56C-CA50-4833-B93A-12787D0C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DCD-AF53-4D52-A619-7FDA2F7E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02E-E8E4-4759-805B-FD4C7D6E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50C-A3F5-4DDA-88DA-ADC3F31A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641-38B2-4913-8253-6C2E8062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6CE-BCB7-4BFB-B6E5-9CC81418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055E-D02D-4E4F-9B44-032AB00BF1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5E26-C779-4651-8B34-4124C54858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РГАНИЗАЦИОНА КУЛТУР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ефинисање организационе 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#1 Деф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истем претпоставки, вредности и норми које је једна група развила кроз решавање проблема екстерне адаптације и интерне интеграције и који се као такви преносе новим члановима организац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#2 Деф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Претпоставке, вредности, норме понашања и ставови, манифестовани кроз симболе, које су чланови једне организације развили и усвој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адржај организационе 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1523880"/>
          <a:ext cx="6096240" cy="5191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мен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тпостав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лед на с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е понаш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н обављања по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ов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у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ремон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ак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на атм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ормална прав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чаји у организ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ки обје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на 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диц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ћ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егдо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х фи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већеност запосле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е и леген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зик - жарг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олог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ац комуник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н мишљ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“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Ледени брег” организационе 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Cloud 7"/>
          <p:cNvSpPr/>
          <p:nvPr/>
        </p:nvSpPr>
        <p:spPr>
          <a:xfrm rot="18895200">
            <a:off x="2274480" y="1847520"/>
            <a:ext cx="4572000" cy="4664160"/>
          </a:xfrm>
          <a:custGeom>
            <a:avLst/>
            <a:gdLst>
              <a:gd name="textAreaLeft" fmla="*/ 630000 w 4572000"/>
              <a:gd name="textAreaRight" fmla="*/ 3616920 w 4572000"/>
              <a:gd name="textAreaTop" fmla="*/ 704160 h 4664160"/>
              <a:gd name="textAreaBottom" fmla="*/ 3743640 h 46641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c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9"/>
          <p:cNvSpPr/>
          <p:nvPr/>
        </p:nvSpPr>
        <p:spPr>
          <a:xfrm>
            <a:off x="304920" y="2819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431280" y="1752480"/>
            <a:ext cx="137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Видљ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аспек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онаш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425880" y="4572000"/>
            <a:ext cx="15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евидљ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аспек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онаш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3505320" y="17524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ехн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имб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егула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2819520" y="3200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тав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етпоста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муникационе мр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Ли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логија организационе 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1566720"/>
          <a:ext cx="8839440" cy="5234040"/>
        </p:xfrm>
        <a:graphic>
          <a:graphicData uri="http://schemas.openxmlformats.org/drawingml/2006/table">
            <a:tbl>
              <a:tblPr/>
              <a:tblGrid>
                <a:gridCol w="1908360"/>
                <a:gridCol w="1733400"/>
                <a:gridCol w="1731960"/>
                <a:gridCol w="1733760"/>
                <a:gridCol w="17319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а моћ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а ул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а зада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а подрш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дај се газду/ше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жати се прав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 треба да зап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ђуљудски односи су важ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ан надз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дизација проце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дизација излаза/резул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дизација улаза/зн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дерски ст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о лидер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тивн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узетнич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ки – фокус на љу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изација и формализа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цент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форм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цент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форм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цент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форм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цент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форм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ости за  послов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зина реагов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узданост, ефикас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ексибилност, иниција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а слоб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ти за послов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 зависи од једне осо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гидност, нема иницијати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ност од љу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суство координа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организације где погоду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 и младе фирме, породични биз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а предузећа, јавне служ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 специјализоване фирме (консал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верзитети, професионална удруже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рганизациона култура и суб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убкултур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 систем вредности, веровања и норми панашања које су развили припадници </a:t>
            </a: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једне груп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у организациј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Организацона култура и субкулту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Перспектива интеграције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дна организација – једна кул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Перспектива диференцијације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оминантна култура и субкул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Перспектива фрагментациј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нема доминантне културе ни стабилних суб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имбол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Симболи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у видљива манифестација организационе кул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Значај симбо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Усмеравање понаш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Омогућавање комун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Интегр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Социјализ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Јачање организационе кул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имбол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Семантички симболи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зик, жаргон, приче, митови, метаф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Бихејвиористички симболи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итуали и церемон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Материјални симболи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пољашњи и унутрашњи изглед просторија, логотип, начин обла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3T08:06:56Z</dcterms:modified>
  <cp:revision>180</cp:revision>
  <dc:subject/>
  <dc:title>Soft and Hard Skills Development: A Current Situation in Serbian Companies</dc:title>
</cp:coreProperties>
</file>